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wmf" ContentType="image/x-wmf"/>
  <Override PartName="/ppt/media/image4.png" ContentType="image/png"/>
  <Override PartName="/ppt/media/image11.jpeg" ContentType="image/jpeg"/>
  <Override PartName="/ppt/media/image9.gif" ContentType="image/gif"/>
  <Override PartName="/ppt/media/image10.wmf" ContentType="image/x-wmf"/>
  <Override PartName="/ppt/media/image7.jpeg" ContentType="image/jpeg"/>
  <Override PartName="/ppt/media/image20.jpeg" ContentType="image/jpeg"/>
  <Override PartName="/ppt/media/image19.gif" ContentType="image/gif"/>
  <Override PartName="/ppt/media/image18.gif" ContentType="image/gif"/>
  <Override PartName="/ppt/media/image5.png" ContentType="image/png"/>
  <Override PartName="/ppt/media/image8.jpeg" ContentType="image/jpeg"/>
  <Override PartName="/ppt/media/image1.jpeg" ContentType="image/jpeg"/>
  <Override PartName="/ppt/media/image15.wmf" ContentType="image/x-wmf"/>
  <Override PartName="/ppt/media/image2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6.png" ContentType="image/png"/>
  <Override PartName="/ppt/media/image14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6C38-99B5-40D2-9199-64DFD56F2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divides 28 exactly and gives  Quotient  7 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= 7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divides 28 exactly and gives  Quotient  7  and Remainder 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8 ÷ 4 = 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divides 28 exactly and gives Quotient 1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divides 28 exactly and gives Quotient 1 and Remainder 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÷ 28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1  =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 =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1  =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4  =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7 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28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FACTORS OF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   =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2   = 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4   = 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8   =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6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   =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2   =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4   = 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8   =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6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CTORS OF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ACA-643C-4B3E-8A1D-AC5D9919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F8F-58B3-4B2F-9274-E51E21C5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30394-2C8B-431C-82E4-E3C1DD90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79833-0A62-422F-8FB5-4F536B9B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5B283-2708-4917-BCFE-D639F74E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1A4CE-2E88-4C04-8369-AF811414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33F81-8102-4086-9A7F-015D0953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E741E-B7E1-4D93-AA38-3B04D9CB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19F3C-D50E-4A4B-884A-B9F5BA4D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38748-431E-428A-9257-ED5CC446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4EF57-01A3-4237-9D22-5E43B17E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6CE-6F6F-40B3-A728-F8930718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BB1-DFE2-41FA-9EC0-7EB49FF7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EB60-18DD-4E28-BFFF-7D4353DE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C2E0-CEF5-47E7-BCB3-D2B6A226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5137-764B-4BCC-9D3E-745BDC8E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6E5A-9130-4F7E-9450-1BB1C074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1A41-1601-462D-B14C-7FB1073F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A40B-4B2E-4827-8CFC-352342D8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F4E9-8127-47B9-8941-B9762826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095-E30D-4FD8-AD1F-DDD69F6C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FD5E-94B5-428A-ABD4-EE076E0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1831-049D-4D9C-A7C3-131EC7B6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BA4E-5EC7-4FFD-B747-5FB56596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91B3-C6EB-43D7-AA29-69A7B8AA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6B58-04FE-4A0A-A7C6-69FB0B0F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4228D-AAA0-43B9-98FD-F4470F64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BCCEE-24F5-4B3F-A010-040A2CE5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5328-E531-4A9F-AF2A-63DD18BF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08779-FAD4-4A6F-8CCD-46A10060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F56B9-BCB3-4106-A423-4929EB93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472B-EF85-440F-B663-61E7609B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E155E-BA81-40D2-AF73-855905F6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5711D-1CEC-4B5C-8A54-12980F8D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810BE-D730-4FAF-8FFE-8F06ED03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7441-B76E-4A6E-BC57-47E26295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4A1A-2EA3-4498-9A45-5F304469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E25A-0397-4136-A521-DD36F794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D2ED5-6216-484F-B8DA-E046F0F0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CAF93-C143-47B6-A8A0-D86AF6EC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8A43D-B154-4B8A-9BC4-E755E033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188A0-040E-4F2C-A04F-178A9637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32F-7A3B-4CEF-8D35-BBD4EBDF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95E51-7646-42E0-AF6B-5C608932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4FCC2-87CF-4559-A1A4-743AB69B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29CD0-DA00-477F-936B-186E371D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95C05-1400-4420-A3AC-265EF1D4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68A95-907B-4A01-B002-AAA1D918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3E745-2344-4CF7-9CDA-8E4E9E6D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09355-1F04-446F-B274-D83EB970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BB3C-6289-4C39-B5A7-91D6FCE1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E02C0-127F-449E-9F5F-2FDA9258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8F501-9CEA-4383-BEF4-98E4444A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25F-A822-48EE-9DDE-E5009E04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817F0-FF5E-4218-8367-7BA60AEA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45A4D-3B60-467A-9F0C-FB3637E0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7E185-F8DD-40A3-A7AC-0131C836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5C920-71CF-4671-919D-37E1F825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9E76E-76D0-4537-809A-C6E1A730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2FE70-9562-4EEC-B925-FEA3E7FB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4E663-368C-4068-9D39-BB19EEC2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8F07D-63FA-4D7B-B602-C916BD11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FADC9-8708-489B-958D-A0E388A9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312A2-ABF7-4735-83FB-9CE5F26F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8ED-0B28-43FD-82F5-E232F6D4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A1A57-EBBD-41E9-916B-8C22DDC5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43800-5E39-4DCA-8F2E-46A240EB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74A1B-34A4-4A8B-ACC2-4B1B33E2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5A020-6312-4E2F-A4AE-125F7B73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EBA54-482F-44CB-9461-5D1174BD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E27DF-3CC0-42BB-8251-8EEBFAB1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CBFB8-D493-42C2-9204-B7BEB289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3F58E-8887-468D-8AB2-0D28ED80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6C0E1-F492-40BB-8F9C-090F70CA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3BF17-1506-46B7-9CEC-670DE071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FCD-9EA1-4794-9E26-4D341D05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C7FDF-74F8-411A-87B6-7BAF38C9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8B7BB-F8ED-49D1-A048-B8C70A1F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6F275-DC65-405E-94F5-A3A35232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93C89-1E8B-49F5-A637-748B60A2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70231-A7D4-4627-9FB7-AC2F4AC0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3ACA3-FA69-4128-BC36-813ACBDC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F0811-E34B-4579-91FB-C4EA8CAD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C1E41-B637-4096-B5C1-377257DC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BD2A0-C52D-415D-AEFD-18A84650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C1AFC-1D15-46DF-BF34-896E596A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FA8-1EC6-49BD-B43C-BFACA8B6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9E02D-5C13-4685-A338-8A37159F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F0126-17DE-416A-BBEF-A846514C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F7498-3C85-4965-ADD0-B705210F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C91C0-59D7-4E96-903F-82171284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CE89C-2D9C-45D2-B8F7-EE6E8925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EF01F-D958-4AD6-BC75-E716C7E2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A3802-95CE-4D7E-AB7A-A01E8BE7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AF7E2-E29C-4014-AFD4-E5D03FAB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24349-58F1-43BB-9B1A-DE3D5206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9BF90-8986-4772-8D55-188FD1CE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768-5AA2-4175-93F5-3CEF4387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B73FC-6D30-4906-BD39-6B824662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C4105-8695-49E6-A613-7FDD0671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82AF1-3D1C-4DEE-9F38-A2049CB2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38939-40EE-4032-9820-1FC6DF6E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9B609-09C4-431D-AA02-1A98BD04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8BD8D-C15E-47B2-8D7B-561E963A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409B1-8F85-471A-90DA-8E5C1119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86A88-00CC-43C8-BB64-2C13BF56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C10EA-7F5D-4425-B469-3D8702F2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0FB08-4FD7-40AC-B876-99006167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AE2E-4C63-40A4-807A-682FF1DB1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A508-D9A2-43E5-8C11-F1612FEA6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C1B3-07D5-43B4-A2DE-08E014AAB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6B74-C741-400C-B65D-FD0F786104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0221-2EB0-4E76-86AF-4A0759F779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AC21-22AC-46E3-833F-8A98852D5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3664-2E24-4F87-B156-84866B7FE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5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7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4C3A-52FB-4E49-A1DE-CDA86A14E10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750E-F224-4466-8FEE-CD3AAEE3C5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29.xml"/><Relationship Id="rId13" Type="http://schemas.openxmlformats.org/officeDocument/2006/relationships/slide" Target="slide29.xml"/><Relationship Id="rId14" Type="http://schemas.openxmlformats.org/officeDocument/2006/relationships/slide" Target="slide30.xml"/><Relationship Id="rId15" Type="http://schemas.openxmlformats.org/officeDocument/2006/relationships/slide" Target="slide29.xml"/><Relationship Id="rId16" Type="http://schemas.openxmlformats.org/officeDocument/2006/relationships/slide" Target="slide30.xml"/><Relationship Id="rId17" Type="http://schemas.openxmlformats.org/officeDocument/2006/relationships/slide" Target="slide30.xml"/><Relationship Id="rId18" Type="http://schemas.openxmlformats.org/officeDocument/2006/relationships/slide" Target="slide29.xml"/><Relationship Id="rId19" Type="http://schemas.openxmlformats.org/officeDocument/2006/relationships/slide" Target="slide29.xml"/><Relationship Id="rId20" Type="http://schemas.openxmlformats.org/officeDocument/2006/relationships/slide" Target="slide30.xml"/><Relationship Id="rId21" Type="http://schemas.openxmlformats.org/officeDocument/2006/relationships/slide" Target="slide29.xml"/><Relationship Id="rId22" Type="http://schemas.openxmlformats.org/officeDocument/2006/relationships/slide" Target="slide30.xml"/><Relationship Id="rId23" Type="http://schemas.openxmlformats.org/officeDocument/2006/relationships/slide" Target="slide30.xml"/><Relationship Id="rId24" Type="http://schemas.openxmlformats.org/officeDocument/2006/relationships/slide" Target="slide29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0.xml"/><Relationship Id="rId30" Type="http://schemas.openxmlformats.org/officeDocument/2006/relationships/slide" Target="slide29.xml"/><Relationship Id="rId31" Type="http://schemas.openxmlformats.org/officeDocument/2006/relationships/slideLayout" Target="../slideLayouts/slideLayout13.xml"/><Relationship Id="rId3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7BB7-18A1-4A9D-AB3A-157946C62F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CTORS                &amp;                          MULTIPLE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.US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GT ( MATHEMATI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V,GILL NA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ENN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0" name="Picture 4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2361960" cy="3581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MCj02320550000[1]"/>
          <p:cNvPicPr/>
          <p:nvPr/>
        </p:nvPicPr>
        <p:blipFill>
          <a:blip r:embed="rId2"/>
          <a:stretch/>
        </p:blipFill>
        <p:spPr>
          <a:xfrm>
            <a:off x="76320" y="2616120"/>
            <a:ext cx="1992240" cy="1422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MPj03993470000[1]"/>
          <p:cNvPicPr/>
          <p:nvPr/>
        </p:nvPicPr>
        <p:blipFill>
          <a:blip r:embed="rId3"/>
          <a:stretch/>
        </p:blipFill>
        <p:spPr>
          <a:xfrm>
            <a:off x="228600" y="49798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MCj03552490000[1]"/>
          <p:cNvPicPr/>
          <p:nvPr/>
        </p:nvPicPr>
        <p:blipFill>
          <a:blip r:embed="rId4"/>
          <a:stretch/>
        </p:blipFill>
        <p:spPr>
          <a:xfrm>
            <a:off x="6934320" y="7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"/>
          <p:cNvPicPr/>
          <p:nvPr/>
        </p:nvPicPr>
        <p:blipFill>
          <a:blip r:embed="rId5"/>
          <a:stretch/>
        </p:blipFill>
        <p:spPr>
          <a:xfrm>
            <a:off x="76320" y="-76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C495-CD8C-46CA-A28A-6028C2C97A5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4" descr="j0299763"/>
          <p:cNvPicPr/>
          <p:nvPr/>
        </p:nvPicPr>
        <p:blipFill>
          <a:blip r:embed="rId1"/>
          <a:stretch/>
        </p:blipFill>
        <p:spPr>
          <a:xfrm>
            <a:off x="914400" y="1523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j0299763"/>
          <p:cNvPicPr/>
          <p:nvPr/>
        </p:nvPicPr>
        <p:blipFill>
          <a:blip r:embed="rId2"/>
          <a:stretch/>
        </p:blipFill>
        <p:spPr>
          <a:xfrm>
            <a:off x="2895480" y="14922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j0299763"/>
          <p:cNvPicPr/>
          <p:nvPr/>
        </p:nvPicPr>
        <p:blipFill>
          <a:blip r:embed="rId3"/>
          <a:stretch/>
        </p:blipFill>
        <p:spPr>
          <a:xfrm>
            <a:off x="4648320" y="1415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j0299763"/>
          <p:cNvPicPr/>
          <p:nvPr/>
        </p:nvPicPr>
        <p:blipFill>
          <a:blip r:embed="rId4"/>
          <a:stretch/>
        </p:blipFill>
        <p:spPr>
          <a:xfrm>
            <a:off x="6324480" y="13716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8" descr="j0299763"/>
          <p:cNvPicPr/>
          <p:nvPr/>
        </p:nvPicPr>
        <p:blipFill>
          <a:blip r:embed="rId5"/>
          <a:stretch/>
        </p:blipFill>
        <p:spPr>
          <a:xfrm>
            <a:off x="83808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9" descr="j0299763"/>
          <p:cNvPicPr/>
          <p:nvPr/>
        </p:nvPicPr>
        <p:blipFill>
          <a:blip r:embed="rId6"/>
          <a:stretch/>
        </p:blipFill>
        <p:spPr>
          <a:xfrm>
            <a:off x="297180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j0299763"/>
          <p:cNvPicPr/>
          <p:nvPr/>
        </p:nvPicPr>
        <p:blipFill>
          <a:blip r:embed="rId7"/>
          <a:stretch/>
        </p:blipFill>
        <p:spPr>
          <a:xfrm>
            <a:off x="48006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j0299763"/>
          <p:cNvPicPr/>
          <p:nvPr/>
        </p:nvPicPr>
        <p:blipFill>
          <a:blip r:embed="rId8"/>
          <a:stretch/>
        </p:blipFill>
        <p:spPr>
          <a:xfrm>
            <a:off x="6553080" y="31240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3"/>
          <p:cNvSpPr/>
          <p:nvPr/>
        </p:nvSpPr>
        <p:spPr>
          <a:xfrm>
            <a:off x="152280" y="4952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E63F-CB14-4017-9F2B-F9B5C6C2C5E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4" descr="j0299763"/>
          <p:cNvPicPr/>
          <p:nvPr/>
        </p:nvPicPr>
        <p:blipFill>
          <a:blip r:embed="rId1"/>
          <a:stretch/>
        </p:blipFill>
        <p:spPr>
          <a:xfrm>
            <a:off x="83808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j0299763"/>
          <p:cNvPicPr/>
          <p:nvPr/>
        </p:nvPicPr>
        <p:blipFill>
          <a:blip r:embed="rId2"/>
          <a:stretch/>
        </p:blipFill>
        <p:spPr>
          <a:xfrm>
            <a:off x="281952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j0299763"/>
          <p:cNvPicPr/>
          <p:nvPr/>
        </p:nvPicPr>
        <p:blipFill>
          <a:blip r:embed="rId3"/>
          <a:stretch/>
        </p:blipFill>
        <p:spPr>
          <a:xfrm>
            <a:off x="838080" y="3733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j0299763"/>
          <p:cNvPicPr/>
          <p:nvPr/>
        </p:nvPicPr>
        <p:blipFill>
          <a:blip r:embed="rId4"/>
          <a:stretch/>
        </p:blipFill>
        <p:spPr>
          <a:xfrm>
            <a:off x="2819520" y="3625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j0299763"/>
          <p:cNvPicPr/>
          <p:nvPr/>
        </p:nvPicPr>
        <p:blipFill>
          <a:blip r:embed="rId5"/>
          <a:stretch/>
        </p:blipFill>
        <p:spPr>
          <a:xfrm>
            <a:off x="838080" y="2133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j0299763"/>
          <p:cNvPicPr/>
          <p:nvPr/>
        </p:nvPicPr>
        <p:blipFill>
          <a:blip r:embed="rId6"/>
          <a:stretch/>
        </p:blipFill>
        <p:spPr>
          <a:xfrm>
            <a:off x="2819520" y="2057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0" descr="j0299763"/>
          <p:cNvPicPr/>
          <p:nvPr/>
        </p:nvPicPr>
        <p:blipFill>
          <a:blip r:embed="rId7"/>
          <a:stretch/>
        </p:blipFill>
        <p:spPr>
          <a:xfrm>
            <a:off x="838080" y="6094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1" descr="j0299763"/>
          <p:cNvPicPr/>
          <p:nvPr/>
        </p:nvPicPr>
        <p:blipFill>
          <a:blip r:embed="rId8"/>
          <a:stretch/>
        </p:blipFill>
        <p:spPr>
          <a:xfrm>
            <a:off x="2819520" y="6094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3"/>
          <p:cNvSpPr/>
          <p:nvPr/>
        </p:nvSpPr>
        <p:spPr>
          <a:xfrm>
            <a:off x="4648320" y="1295280"/>
            <a:ext cx="426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9A5D-3EFC-44E5-BFD1-08ABF4C6F81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8" descr="j0299763"/>
          <p:cNvPicPr/>
          <p:nvPr/>
        </p:nvPicPr>
        <p:blipFill>
          <a:blip r:embed="rId1"/>
          <a:stretch/>
        </p:blipFill>
        <p:spPr>
          <a:xfrm>
            <a:off x="762120" y="152280"/>
            <a:ext cx="838080" cy="69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0"/>
          <p:cNvSpPr/>
          <p:nvPr/>
        </p:nvSpPr>
        <p:spPr>
          <a:xfrm>
            <a:off x="2209680" y="150804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Rows × 1 Ball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11" descr="j0299763"/>
          <p:cNvPicPr/>
          <p:nvPr/>
        </p:nvPicPr>
        <p:blipFill>
          <a:blip r:embed="rId2"/>
          <a:stretch/>
        </p:blipFill>
        <p:spPr>
          <a:xfrm>
            <a:off x="762120" y="9907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2" descr="j0299763"/>
          <p:cNvPicPr/>
          <p:nvPr/>
        </p:nvPicPr>
        <p:blipFill>
          <a:blip r:embed="rId3"/>
          <a:stretch/>
        </p:blipFill>
        <p:spPr>
          <a:xfrm>
            <a:off x="762120" y="18288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3" descr="j0299763"/>
          <p:cNvPicPr/>
          <p:nvPr/>
        </p:nvPicPr>
        <p:blipFill>
          <a:blip r:embed="rId4"/>
          <a:stretch/>
        </p:blipFill>
        <p:spPr>
          <a:xfrm>
            <a:off x="762120" y="26668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4" descr="j0299763"/>
          <p:cNvPicPr/>
          <p:nvPr/>
        </p:nvPicPr>
        <p:blipFill>
          <a:blip r:embed="rId5"/>
          <a:stretch/>
        </p:blipFill>
        <p:spPr>
          <a:xfrm>
            <a:off x="762120" y="35053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5" descr="j0299763"/>
          <p:cNvPicPr/>
          <p:nvPr/>
        </p:nvPicPr>
        <p:blipFill>
          <a:blip r:embed="rId6"/>
          <a:stretch/>
        </p:blipFill>
        <p:spPr>
          <a:xfrm>
            <a:off x="762120" y="43434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6" descr="j0299763"/>
          <p:cNvPicPr/>
          <p:nvPr/>
        </p:nvPicPr>
        <p:blipFill>
          <a:blip r:embed="rId7"/>
          <a:stretch/>
        </p:blipFill>
        <p:spPr>
          <a:xfrm>
            <a:off x="762120" y="51814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7" descr="j0299763"/>
          <p:cNvPicPr/>
          <p:nvPr/>
        </p:nvPicPr>
        <p:blipFill>
          <a:blip r:embed="rId8"/>
          <a:stretch/>
        </p:blipFill>
        <p:spPr>
          <a:xfrm>
            <a:off x="762120" y="6019920"/>
            <a:ext cx="838080" cy="693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462F-ED5C-47A1-A00C-EDD701C4DD6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295280" y="214956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, 2, 4  and  8 ar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of 8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16E0-5690-4F60-8A9E-22FCC2E6C5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457200" y="849240"/>
            <a:ext cx="83818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7 divides 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4 and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amond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833F-9E2C-44D3-904D-D74944F7C2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533520" y="990720"/>
            <a:ext cx="815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 divides 28 exactly and gives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7 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4 = 7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111F-6E2A-47DB-B820-6D47113500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533520" y="838080"/>
            <a:ext cx="81532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8 divides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1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blinds dir="vert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762F-373D-4A04-A334-5602261B9E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2362320" y="1295280"/>
            <a:ext cx="4572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1  = 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4  = 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7  =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÷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 28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4114800" y="1295280"/>
            <a:ext cx="1143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371600" y="3049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in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3" dur="2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2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3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3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5" dur="30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7" dur="30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ED5B-EC69-4024-B94D-697FF80103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2209680" y="933480"/>
            <a:ext cx="48006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   = 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2   =  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4   = 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8   = 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6 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4038480" y="933480"/>
            <a:ext cx="1143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137160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3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3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3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30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30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7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1593-ABB0-4F80-A595-EC9B8805E4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factor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a number is an exact divisor of  that number i.e. the factor leaves remainder 0 when it divides the numb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DD4C-D4AB-4584-860A-6A6D222329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ST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6 star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8E31-27C4-400B-980A-84FB1B2BF4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533520" y="228600"/>
            <a:ext cx="830556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 and 5 are factors of 20. We can also say that 20 is multiple of 4 and 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 2 × 12 = 24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 and 12 are factors of 2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4 is the multiple of 2 and 1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, a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number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s a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Arial"/>
              </a:rPr>
              <a:t>multip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of its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fac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28DB-D40A-4BC3-AD0F-9802AE3906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685800" y="533520"/>
            <a:ext cx="754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914400" y="47242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number of multiples of a given number is infini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0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6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2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3BAF-3A39-4A3B-B1BC-47C43AD05E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1371600" y="838080"/>
            <a:ext cx="67816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S  OF SOME  NUMB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mb dir="vert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B6F5-3EA6-4EC6-B0A1-EC131BD3CE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990720" y="236232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24"/>
          <p:cNvSpPr/>
          <p:nvPr/>
        </p:nvSpPr>
        <p:spPr>
          <a:xfrm rot="20400000">
            <a:off x="3733560" y="30481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25"/>
          <p:cNvSpPr/>
          <p:nvPr/>
        </p:nvSpPr>
        <p:spPr>
          <a:xfrm rot="1200000">
            <a:off x="4343400" y="304776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3200400" y="4343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6095880" y="43434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ulti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28"/>
          <p:cNvSpPr/>
          <p:nvPr/>
        </p:nvSpPr>
        <p:spPr>
          <a:xfrm rot="20400000">
            <a:off x="5943240" y="304812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8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16C3-EFD2-4A13-AA23-D892E1E51E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r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6180-6D72-4D78-BDD9-F3F7AA8444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533520" y="1676520"/>
            <a:ext cx="7848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C35D-3A34-445C-9CC2-BAA4B99EED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 OR MULTIPL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    5    =   1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5    ×     4    =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    ×    10   =   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5    ×    6     =   2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7    ×    30   =   2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7A61-F16E-4CE6-94B9-1B668E7653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ate whether the following statements ar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1 is a factor of every number.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Number of factors of a given number is infinite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The number of multiples of 5 is 10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The factors of 65 are 1, 5 and 13 only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8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8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8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8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8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8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8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Місце для номера слайда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6575-90B1-41A6-B156-40EA73EEEEF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4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733920" cy="3886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6"/>
          <p:cNvSpPr/>
          <p:nvPr/>
        </p:nvSpPr>
        <p:spPr>
          <a:xfrm>
            <a:off x="5410080" y="11430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7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4"/>
          <a:stretch/>
        </p:blipFill>
        <p:spPr>
          <a:xfrm>
            <a:off x="66294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8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6cc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B7EE-B690-4549-9335-BB6E655FB6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5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6" descr="smiley%2520face"/>
          <p:cNvPicPr/>
          <p:nvPr/>
        </p:nvPicPr>
        <p:blipFill>
          <a:blip r:embed="rId1"/>
          <a:stretch/>
        </p:blipFill>
        <p:spPr>
          <a:xfrm>
            <a:off x="2971800" y="2819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4ACC-2B14-4DC1-9FD2-4FBE0ED18E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j0097979[1]"/>
          <p:cNvPicPr/>
          <p:nvPr/>
        </p:nvPicPr>
        <p:blipFill>
          <a:blip r:embed="rId1"/>
          <a:stretch/>
        </p:blipFill>
        <p:spPr>
          <a:xfrm>
            <a:off x="15228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j0097979[1]"/>
          <p:cNvPicPr/>
          <p:nvPr/>
        </p:nvPicPr>
        <p:blipFill>
          <a:blip r:embed="rId2"/>
          <a:stretch/>
        </p:blipFill>
        <p:spPr>
          <a:xfrm>
            <a:off x="795816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j0097979[1]"/>
          <p:cNvPicPr/>
          <p:nvPr/>
        </p:nvPicPr>
        <p:blipFill>
          <a:blip r:embed="rId3"/>
          <a:stretch/>
        </p:blipFill>
        <p:spPr>
          <a:xfrm>
            <a:off x="502920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j0097979[1]"/>
          <p:cNvPicPr/>
          <p:nvPr/>
        </p:nvPicPr>
        <p:blipFill>
          <a:blip r:embed="rId4"/>
          <a:stretch/>
        </p:blipFill>
        <p:spPr>
          <a:xfrm>
            <a:off x="33526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j0097979[1]"/>
          <p:cNvPicPr/>
          <p:nvPr/>
        </p:nvPicPr>
        <p:blipFill>
          <a:blip r:embed="rId5"/>
          <a:stretch/>
        </p:blipFill>
        <p:spPr>
          <a:xfrm>
            <a:off x="17524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j0097979[1]"/>
          <p:cNvPicPr/>
          <p:nvPr/>
        </p:nvPicPr>
        <p:blipFill>
          <a:blip r:embed="rId6"/>
          <a:stretch/>
        </p:blipFill>
        <p:spPr>
          <a:xfrm>
            <a:off x="6477120" y="2819520"/>
            <a:ext cx="1185840" cy="11286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3"/>
          <p:cNvSpPr/>
          <p:nvPr/>
        </p:nvSpPr>
        <p:spPr>
          <a:xfrm>
            <a:off x="609480" y="49528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9585"/>
            </a:gs>
            <a:gs pos="100000">
              <a:srgbClr val="dd24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0EA5-5FB1-4B9C-91F4-2E7C0D2352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4" descr="SadFace"/>
          <p:cNvPicPr/>
          <p:nvPr/>
        </p:nvPicPr>
        <p:blipFill>
          <a:blip r:embed="rId1"/>
          <a:stretch/>
        </p:blipFill>
        <p:spPr>
          <a:xfrm>
            <a:off x="2971800" y="25146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0F66-9E7E-4762-BFCD-970F0AC0D1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4" descr="j0097979[1]"/>
          <p:cNvPicPr/>
          <p:nvPr/>
        </p:nvPicPr>
        <p:blipFill>
          <a:blip r:embed="rId1"/>
          <a:stretch/>
        </p:blipFill>
        <p:spPr>
          <a:xfrm>
            <a:off x="2819520" y="60948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j0097979[1]"/>
          <p:cNvPicPr/>
          <p:nvPr/>
        </p:nvPicPr>
        <p:blipFill>
          <a:blip r:embed="rId2"/>
          <a:stretch/>
        </p:blipFill>
        <p:spPr>
          <a:xfrm>
            <a:off x="4800600" y="6094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j0097979[1]"/>
          <p:cNvPicPr/>
          <p:nvPr/>
        </p:nvPicPr>
        <p:blipFill>
          <a:blip r:embed="rId3"/>
          <a:stretch/>
        </p:blipFill>
        <p:spPr>
          <a:xfrm>
            <a:off x="2895480" y="2133720"/>
            <a:ext cx="1219320" cy="1160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7" descr="j0097979[1]"/>
          <p:cNvPicPr/>
          <p:nvPr/>
        </p:nvPicPr>
        <p:blipFill>
          <a:blip r:embed="rId4"/>
          <a:stretch/>
        </p:blipFill>
        <p:spPr>
          <a:xfrm>
            <a:off x="4876920" y="2057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j0097979[1]"/>
          <p:cNvPicPr/>
          <p:nvPr/>
        </p:nvPicPr>
        <p:blipFill>
          <a:blip r:embed="rId5"/>
          <a:stretch/>
        </p:blipFill>
        <p:spPr>
          <a:xfrm>
            <a:off x="2895480" y="36576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" descr="j0097979[1]"/>
          <p:cNvPicPr/>
          <p:nvPr/>
        </p:nvPicPr>
        <p:blipFill>
          <a:blip r:embed="rId6"/>
          <a:stretch/>
        </p:blipFill>
        <p:spPr>
          <a:xfrm>
            <a:off x="4952880" y="3581280"/>
            <a:ext cx="1219320" cy="11606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0"/>
          <p:cNvSpPr/>
          <p:nvPr/>
        </p:nvSpPr>
        <p:spPr>
          <a:xfrm>
            <a:off x="228600" y="53341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C9CE-F8BC-4FDB-AD62-6A6B49EADF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4" descr="j0097979[1]"/>
          <p:cNvPicPr/>
          <p:nvPr/>
        </p:nvPicPr>
        <p:blipFill>
          <a:blip r:embed="rId1"/>
          <a:stretch/>
        </p:blipFill>
        <p:spPr>
          <a:xfrm>
            <a:off x="1676520" y="914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j0097979[1]"/>
          <p:cNvPicPr/>
          <p:nvPr/>
        </p:nvPicPr>
        <p:blipFill>
          <a:blip r:embed="rId2"/>
          <a:stretch/>
        </p:blipFill>
        <p:spPr>
          <a:xfrm>
            <a:off x="182880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j0097979[1]"/>
          <p:cNvPicPr/>
          <p:nvPr/>
        </p:nvPicPr>
        <p:blipFill>
          <a:blip r:embed="rId3"/>
          <a:stretch/>
        </p:blipFill>
        <p:spPr>
          <a:xfrm>
            <a:off x="3809880" y="9144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j0097979[1]"/>
          <p:cNvPicPr/>
          <p:nvPr/>
        </p:nvPicPr>
        <p:blipFill>
          <a:blip r:embed="rId4"/>
          <a:stretch/>
        </p:blipFill>
        <p:spPr>
          <a:xfrm>
            <a:off x="5867280" y="89676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j0097979[1]"/>
          <p:cNvPicPr/>
          <p:nvPr/>
        </p:nvPicPr>
        <p:blipFill>
          <a:blip r:embed="rId5"/>
          <a:stretch/>
        </p:blipFill>
        <p:spPr>
          <a:xfrm>
            <a:off x="3809880" y="27432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j0097979[1]"/>
          <p:cNvPicPr/>
          <p:nvPr/>
        </p:nvPicPr>
        <p:blipFill>
          <a:blip r:embed="rId6"/>
          <a:stretch/>
        </p:blipFill>
        <p:spPr>
          <a:xfrm>
            <a:off x="5791320" y="2743200"/>
            <a:ext cx="1218960" cy="1160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"/>
          <p:cNvSpPr/>
          <p:nvPr/>
        </p:nvSpPr>
        <p:spPr>
          <a:xfrm>
            <a:off x="228600" y="4684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E774-51DB-4370-BD83-F05C670E08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13" descr="j0097979[1]"/>
          <p:cNvPicPr/>
          <p:nvPr/>
        </p:nvPicPr>
        <p:blipFill>
          <a:blip r:embed="rId1"/>
          <a:stretch/>
        </p:blipFill>
        <p:spPr>
          <a:xfrm>
            <a:off x="1447920" y="54100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4" descr="j0097979[1]"/>
          <p:cNvPicPr/>
          <p:nvPr/>
        </p:nvPicPr>
        <p:blipFill>
          <a:blip r:embed="rId2"/>
          <a:stretch/>
        </p:blipFill>
        <p:spPr>
          <a:xfrm>
            <a:off x="1447920" y="4419720"/>
            <a:ext cx="1218960" cy="761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5" descr="j0097979[1]"/>
          <p:cNvPicPr/>
          <p:nvPr/>
        </p:nvPicPr>
        <p:blipFill>
          <a:blip r:embed="rId3"/>
          <a:stretch/>
        </p:blipFill>
        <p:spPr>
          <a:xfrm>
            <a:off x="1447920" y="34290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6" descr="j0097979[1]"/>
          <p:cNvPicPr/>
          <p:nvPr/>
        </p:nvPicPr>
        <p:blipFill>
          <a:blip r:embed="rId4"/>
          <a:stretch/>
        </p:blipFill>
        <p:spPr>
          <a:xfrm>
            <a:off x="1447920" y="25146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7" descr="j0097979[1]"/>
          <p:cNvPicPr/>
          <p:nvPr/>
        </p:nvPicPr>
        <p:blipFill>
          <a:blip r:embed="rId5"/>
          <a:stretch/>
        </p:blipFill>
        <p:spPr>
          <a:xfrm>
            <a:off x="1447920" y="15238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8" descr="j0097979[1]"/>
          <p:cNvPicPr/>
          <p:nvPr/>
        </p:nvPicPr>
        <p:blipFill>
          <a:blip r:embed="rId6"/>
          <a:stretch/>
        </p:blipFill>
        <p:spPr>
          <a:xfrm>
            <a:off x="1447920" y="45720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9"/>
          <p:cNvSpPr/>
          <p:nvPr/>
        </p:nvSpPr>
        <p:spPr>
          <a:xfrm>
            <a:off x="3733920" y="21337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EBDB-3114-49EE-9CFF-38CA6C4C67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22860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6 = 1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2 ×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6 ×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, 2, 3 and 6 ar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of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ver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d1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2DC5-DAB3-47B9-8BA9-FA04C2EAC8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FOOTBA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8 football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A87A-FFD9-429E-B01B-3B76456A35C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371600" y="7621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rrangement of 8 in different w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5" descr="j0299763"/>
          <p:cNvPicPr/>
          <p:nvPr/>
        </p:nvPicPr>
        <p:blipFill>
          <a:blip r:embed="rId1"/>
          <a:stretch/>
        </p:blipFill>
        <p:spPr>
          <a:xfrm>
            <a:off x="0" y="33210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8" descr="j0299763"/>
          <p:cNvPicPr/>
          <p:nvPr/>
        </p:nvPicPr>
        <p:blipFill>
          <a:blip r:embed="rId2"/>
          <a:stretch/>
        </p:blipFill>
        <p:spPr>
          <a:xfrm>
            <a:off x="792468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9" descr="j0299763"/>
          <p:cNvPicPr/>
          <p:nvPr/>
        </p:nvPicPr>
        <p:blipFill>
          <a:blip r:embed="rId3"/>
          <a:stretch/>
        </p:blipFill>
        <p:spPr>
          <a:xfrm>
            <a:off x="6858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0" descr="j0299763"/>
          <p:cNvPicPr/>
          <p:nvPr/>
        </p:nvPicPr>
        <p:blipFill>
          <a:blip r:embed="rId4"/>
          <a:stretch/>
        </p:blipFill>
        <p:spPr>
          <a:xfrm>
            <a:off x="5715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1" descr="j0299763"/>
          <p:cNvPicPr/>
          <p:nvPr/>
        </p:nvPicPr>
        <p:blipFill>
          <a:blip r:embed="rId5"/>
          <a:stretch/>
        </p:blipFill>
        <p:spPr>
          <a:xfrm>
            <a:off x="3429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2" descr="j0299763"/>
          <p:cNvPicPr/>
          <p:nvPr/>
        </p:nvPicPr>
        <p:blipFill>
          <a:blip r:embed="rId6"/>
          <a:stretch/>
        </p:blipFill>
        <p:spPr>
          <a:xfrm>
            <a:off x="2286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3" descr="j0299763"/>
          <p:cNvPicPr/>
          <p:nvPr/>
        </p:nvPicPr>
        <p:blipFill>
          <a:blip r:embed="rId7"/>
          <a:stretch/>
        </p:blipFill>
        <p:spPr>
          <a:xfrm>
            <a:off x="4572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4" descr="j0299763"/>
          <p:cNvPicPr/>
          <p:nvPr/>
        </p:nvPicPr>
        <p:blipFill>
          <a:blip r:embed="rId8"/>
          <a:stretch/>
        </p:blipFill>
        <p:spPr>
          <a:xfrm>
            <a:off x="1143000" y="3276720"/>
            <a:ext cx="1143000" cy="9460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25"/>
          <p:cNvSpPr/>
          <p:nvPr/>
        </p:nvSpPr>
        <p:spPr>
          <a:xfrm>
            <a:off x="1828800" y="51055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6"/>
          <p:cNvSpPr/>
          <p:nvPr/>
        </p:nvSpPr>
        <p:spPr>
          <a:xfrm>
            <a:off x="380880" y="5257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l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38:20Z</dcterms:created>
  <dc:creator>Karthik Ramachandran</dc:creator>
  <dc:description/>
  <dc:language>en-US</dc:language>
  <cp:lastModifiedBy>RomaK</cp:lastModifiedBy>
  <dcterms:modified xsi:type="dcterms:W3CDTF">2015-09-04T07:40:24Z</dcterms:modified>
  <cp:revision>58</cp:revision>
  <dc:subject/>
  <dc:title>FACTORS &amp; MULTIPLES</dc:title>
</cp:coreProperties>
</file>